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4A2-F67B-45A7-830E-E62C4A95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D43-6B57-4564-BD8D-2D354E2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CEF-03DC-4965-9CC2-48D4171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123-3B62-4B19-AE85-90998E0C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183-F2D3-4D56-9080-EE0B5243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58F-A2F9-46B6-B462-B353B30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3F0-9164-4BC8-8B60-BF5C4DD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7DC-BCFC-4D76-92C5-0E85A19F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7C4-269E-426D-8991-3663CB9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AF7-6670-40B4-A647-F265CA93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E38-3A0F-4C97-BDE0-91E8112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24C-716C-49E6-BB66-E95A3EF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356-485F-41C2-A849-1B4F2957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219" r="36631" b="55253"/>
          <a:stretch/>
        </p:blipFill>
        <p:spPr>
          <a:xfrm>
            <a:off x="380880" y="685800"/>
            <a:ext cx="3200400" cy="196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33520" y="5410080"/>
            <a:ext cx="7543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ustomize your emails.  In Lotus Notes, while in your Inbox &gt; Tools &gt; Preferences, on the basics tab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heck Spel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Make a fancy letterhead – this appears at the top of your emai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reate a signature that automatically appends to the end of each email.  *Create a file first, save it, then browse to the spot  where you have it sa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13372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5253" r="23761" b="51273"/>
          <a:stretch/>
        </p:blipFill>
        <p:spPr>
          <a:xfrm>
            <a:off x="4343400" y="685800"/>
            <a:ext cx="3505320" cy="2016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34340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Lett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4934" r="29867" b="61942"/>
          <a:stretch/>
        </p:blipFill>
        <p:spPr>
          <a:xfrm>
            <a:off x="304920" y="3429000"/>
            <a:ext cx="3995640" cy="1901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7:13:13Z</dcterms:created>
  <dc:creator>xpsetup</dc:creator>
  <dc:description/>
  <dc:language>en-US</dc:language>
  <cp:lastModifiedBy>Jerri West</cp:lastModifiedBy>
  <dcterms:modified xsi:type="dcterms:W3CDTF">2007-08-27T13:33:15Z</dcterms:modified>
  <cp:revision>2</cp:revision>
  <dc:subject/>
  <dc:title>Slide 1</dc:title>
</cp:coreProperties>
</file>